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4ACA-12FB-4A54-9609-0881873764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the idealist: by pursuing glory, princes can create the best regimes. He appeals to their self-interest, but not just to any version of this self-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inces are not actually doing what Machiavelli suggests; there is a need for advice because princes misunderstand their self-interest and do not know the rules of the art of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beginning of the Discourses, where Machiavelli discusses the various classifications of political regimes from the past, including Aristotle’s: he dismisses most regimes on the grounds of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republics are stable not only vis a vis internal politics but also vis a vis external politics, which is constantly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an “economy of violence” is due to the political theorist Sheldon Woli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chiavelli’s distinction between the people and the few, and his apparent view that it is the good of the people that should be kept in vie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a probl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engages in a redefinition of the idea of </a:t>
            </a:r>
            <a:r>
              <a:rPr b="0" i="1" lang="en-US" sz="1200" spc="-1" strike="noStrike">
                <a:solidFill>
                  <a:srgbClr val="000000"/>
                </a:solidFill>
                <a:latin typeface="Arial"/>
              </a:rPr>
              <a:t>virtu, </a:t>
            </a:r>
            <a:r>
              <a:rPr b="0" lang="en-US" sz="1200" spc="-1" strike="noStrike">
                <a:solidFill>
                  <a:srgbClr val="000000"/>
                </a:solidFill>
                <a:latin typeface="Arial"/>
              </a:rPr>
              <a:t>returning it to something closer to its original Latin and Greek mean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s of things make you contemptib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is the model not for Ciceronian reasons, but for new reas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dividual moral judgment is misleading about internal conflict, just as it is misleading about political mor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with Aristot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thing like a science of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on and the fox and the human being: one must be rational, but one must also use the cunning of the fox and the rashness of the lion, which are subrational, and do not represent conventional virt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politics serves to master fortune; you can discover the rules of the use of power to survive. Contrast this with Thucydides, whose view of strife is that it is tragic; not much is to be done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ies required for mastering fortune, however, are not always those of a good man, especially not in the international arena, where conflict is inescapable and often fa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xample, he advices the King of France about how to conquer Italy, despite the sentiments he expresses in the last chapter of the </a:t>
            </a:r>
            <a:r>
              <a:rPr b="0" i="1" lang="en-US" sz="1200" spc="-1" strike="noStrike">
                <a:solidFill>
                  <a:srgbClr val="000000"/>
                </a:solidFill>
                <a:latin typeface="Arial"/>
              </a:rPr>
              <a:t>Pr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moral politicians are fascinated by the Pri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is fascinated by politics, as some might be fascinated by ch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he recommends things that we think should not be recommended: cruelty, murder, etc. And he does no appear to recommend them for the common good, though occasionally such actions may be interpreted as actions in the common good; he recommends them as good for the prince, appealing to the self-interest of the prince, not to his concern for his peop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power, on this view, would be ultimately for the purpose of creating stable and enduring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ble and enduring st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5E9F9-19B0-4B89-B029-1EE49C228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F75D-5F86-47B4-88D4-50709099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9FCEA-633A-4CB4-9C92-B47DA5D6F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E4588-F209-46B8-AE27-317FA73CA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AAD5-A96A-4057-BAA3-3777A7197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9945-4D8B-4E3A-994C-2311FCDD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2036-B791-4344-89DE-E3926A342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9A17-75E9-4A42-95DB-4415760C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8C1B4-AE31-4BA0-A205-805A424E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3B78-ABBB-4155-80E1-3D9925A7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3DF0-D0DF-47B0-9F49-F466E187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3A32-7920-43A4-8C29-248D0146B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9644-04E1-48B0-82E7-FA04126B9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onstitution.org/mac/prince17.ht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onstitution.org/mac/prince15.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August 2008</a:t>
            </a:r>
            <a:endParaRPr b="0" lang="en-US" sz="3200" spc="-1" strike="noStrike">
              <a:solidFill>
                <a:srgbClr val="000000"/>
              </a:solidFill>
              <a:latin typeface="Arial"/>
            </a:endParaRPr>
          </a:p>
        </p:txBody>
      </p:sp>
      <p:pic>
        <p:nvPicPr>
          <p:cNvPr id="50" name="" descr=""/>
          <p:cNvPicPr/>
          <p:nvPr/>
        </p:nvPicPr>
        <p:blipFill>
          <a:blip r:embed="rId1"/>
          <a:stretch/>
        </p:blipFill>
        <p:spPr>
          <a:xfrm>
            <a:off x="685800" y="685800"/>
            <a:ext cx="215892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mplicit model of the best regim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lory</a:t>
            </a:r>
            <a:r>
              <a:rPr b="0" lang="en-US" sz="3200" spc="-1" strike="noStrike">
                <a:solidFill>
                  <a:srgbClr val="000000"/>
                </a:solidFill>
                <a:latin typeface="Arial"/>
              </a:rPr>
              <a:t> is the main good princes (should) pursue; politics is for politics’ sa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ry is especially attained in founding states that are </a:t>
            </a:r>
            <a:r>
              <a:rPr b="0" i="1" lang="en-US" sz="3200" spc="-1" strike="noStrike">
                <a:solidFill>
                  <a:srgbClr val="000000"/>
                </a:solidFill>
                <a:latin typeface="Arial"/>
              </a:rPr>
              <a:t>stable</a:t>
            </a:r>
            <a:r>
              <a:rPr b="0" lang="en-US" sz="3200" spc="-1" strike="noStrike">
                <a:solidFill>
                  <a:srgbClr val="000000"/>
                </a:solidFill>
                <a:latin typeface="Arial"/>
              </a:rPr>
              <a:t>, especially in the international ar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stable states are certain kinds of republics (mixed reg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iavelli’s “Economy of Violenc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nce and coercion are an inescapable part of politics; men must be assumed ev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we understand the principles governing its use, we can minimize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xternal politics, we can survive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nternal politics, we can understand how to arrange things so that violence is not a constant presence (republican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uelty vs. merc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No prince should mind being called cruel for what he does to keep his subjects united and loyal” (</a:t>
            </a:r>
            <a:r>
              <a:rPr b="0" lang="en-GB" sz="2800" spc="-1" strike="noStrike" u="sng">
                <a:solidFill>
                  <a:srgbClr val="009999"/>
                </a:solidFill>
                <a:uFillTx/>
                <a:latin typeface="Arial"/>
                <a:hlinkClick r:id="rId1"/>
              </a:rPr>
              <a:t>chapter 17</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rcy turns into cruelty when more cruelty needs to be used to prevent the disorder caused by (previous) excessive mer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uelty well used is mercy, since it diminishes the need for further violence over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uelty badly used creates hat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ory of Remirro de Orco</a:t>
            </a:r>
            <a:endParaRPr b="0" lang="en-US" sz="4400" spc="-1" strike="noStrike">
              <a:solidFill>
                <a:srgbClr val="000000"/>
              </a:solidFill>
              <a:latin typeface="Arial"/>
            </a:endParaRPr>
          </a:p>
        </p:txBody>
      </p:sp>
      <p:pic>
        <p:nvPicPr>
          <p:cNvPr id="80" name="" descr=""/>
          <p:cNvPicPr/>
          <p:nvPr/>
        </p:nvPicPr>
        <p:blipFill>
          <a:blip r:embed="rId1"/>
          <a:stretch/>
        </p:blipFill>
        <p:spPr>
          <a:xfrm>
            <a:off x="2627280" y="1341360"/>
            <a:ext cx="3909960" cy="508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elty well used?</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ochet in Chile vs. the Argentine military junta</a:t>
            </a:r>
            <a:endParaRPr b="0" lang="en-US" sz="2800" spc="-1" strike="noStrike">
              <a:solidFill>
                <a:srgbClr val="000000"/>
              </a:solidFill>
              <a:latin typeface="Arial"/>
            </a:endParaRPr>
          </a:p>
        </p:txBody>
      </p:sp>
      <p:pic>
        <p:nvPicPr>
          <p:cNvPr id="83" name="" descr=""/>
          <p:cNvPicPr/>
          <p:nvPr/>
        </p:nvPicPr>
        <p:blipFill>
          <a:blip r:embed="rId1"/>
          <a:stretch/>
        </p:blipFill>
        <p:spPr>
          <a:xfrm>
            <a:off x="4937040" y="1600200"/>
            <a:ext cx="34592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nesty and dishonesty</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rs should not keep their promises when doing so would be disadvantage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y must understand that “disadvantage” proper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rosity and stingines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ly, generosity or liberality is extremely expensive because it must be “s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osity or liberality will thus involve large taxes on the people, which makes the prince h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tred of the people is extremely dangerous to the pri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utation for stinginess will eventually be seen as true libe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s paradox</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better politics, you need (certain kinds of) bad people as politic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tred and contemp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hing that a prince must protect himself against is hatred and contem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being hated different from being f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hat make you hated</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GB" sz="3200" spc="-1" strike="noStrike">
                <a:solidFill>
                  <a:srgbClr val="000000"/>
                </a:solidFill>
                <a:latin typeface="Arial"/>
              </a:rPr>
              <a:t>It makes him hated above all things, as I have said, to be rapacious, and to be a violator of the property and women of his subjects, from both of which he must abstain. And when neither their property nor honour is touched, the majority of men live content, and he has only to contend with the ambition of a few, whom he can curb with ease in many ways” (chapter 1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
            </a:r>
            <a:r>
              <a:rPr b="0" i="1" lang="en-NZ" sz="4400" spc="-1" strike="noStrike">
                <a:solidFill>
                  <a:srgbClr val="000000"/>
                </a:solidFill>
                <a:latin typeface="Arial"/>
              </a:rPr>
              <a:t>virtu</a:t>
            </a:r>
            <a:r>
              <a:rPr b="0" lang="en-NZ" sz="4400" spc="-1" strike="noStrike">
                <a:solidFill>
                  <a:srgbClr val="000000"/>
                </a:solidFill>
                <a:latin typeface="Arial"/>
              </a:rPr>
              <a:t> of the pri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that enable a person to master fortune the same as the moral qu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of a prince who will be good for a country the same as the mor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hat make you contemptibl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akes him contemptible to be considered fickle, frivolous, effeminate, mean-spirited, irresolute, from all of which a prince should guard himself as from a rock; and he should endeavour to show in his actions greatness, courage, gravity, and fortitude; and in his private dealings with his subjects let him show that his judgments are irrevocable, and maintain himself in such reputation that no one can hope either to deceive him or to get round him. (chapter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bility of stat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xed reg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t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 as th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and freedom</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kind of) internal conflict produces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and freedom</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Republic there exist opposing interests which can never be reconc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76720" y="1989000"/>
            <a:ext cx="3284640" cy="40323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ing </a:t>
            </a:r>
            <a:r>
              <a:rPr b="0" i="1" lang="en-US" sz="4400" spc="-1" strike="noStrike">
                <a:solidFill>
                  <a:srgbClr val="000000"/>
                </a:solidFill>
                <a:latin typeface="Arial"/>
              </a:rPr>
              <a:t>fortu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ld is ruled partly by </a:t>
            </a:r>
            <a:r>
              <a:rPr b="0" i="1" lang="en-US" sz="2800" spc="-1" strike="noStrike">
                <a:solidFill>
                  <a:srgbClr val="000000"/>
                </a:solidFill>
                <a:latin typeface="Arial"/>
              </a:rPr>
              <a:t>fortun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stant passions of men incline them to strife and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ing </a:t>
            </a:r>
            <a:r>
              <a:rPr b="0" i="1" lang="en-US" sz="4400" spc="-1" strike="noStrike">
                <a:solidFill>
                  <a:srgbClr val="000000"/>
                </a:solidFill>
                <a:latin typeface="Arial"/>
              </a:rPr>
              <a:t>fortun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tuna</a:t>
            </a:r>
            <a:r>
              <a:rPr b="0" lang="en-US" sz="2800" spc="-1" strike="noStrike">
                <a:solidFill>
                  <a:srgbClr val="000000"/>
                </a:solidFill>
                <a:latin typeface="Arial"/>
              </a:rPr>
              <a:t>, however, can be mastered if one is bold and adaptable: </a:t>
            </a:r>
            <a:r>
              <a:rPr b="0" i="1" lang="en-US" sz="2800" spc="-1" strike="noStrike">
                <a:solidFill>
                  <a:srgbClr val="000000"/>
                </a:solidFill>
                <a:latin typeface="Arial"/>
              </a:rPr>
              <a:t>virtu</a:t>
            </a:r>
            <a:r>
              <a:rPr b="0" lang="en-US" sz="2800" spc="-1" strike="noStrike">
                <a:solidFill>
                  <a:srgbClr val="000000"/>
                </a:solidFill>
                <a:latin typeface="Arial"/>
              </a:rPr>
              <a:t> is excellence in mastering fortu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4648320" y="2863800"/>
            <a:ext cx="4038480" cy="19987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tues of the prince and the good of a country</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earning how “</a:t>
            </a:r>
            <a:r>
              <a:rPr b="0" lang="en-NZ" sz="3200" spc="-1" strike="noStrike" u="sng">
                <a:solidFill>
                  <a:srgbClr val="009999"/>
                </a:solidFill>
                <a:uFillTx/>
                <a:latin typeface="Arial"/>
                <a:hlinkClick r:id="rId1"/>
              </a:rPr>
              <a:t>not to be good</a:t>
            </a:r>
            <a:r>
              <a:rPr b="0" lang="en-NZ"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chiavelli as a “teacher of evil” or at least an amoral analyst of power rel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Dirty hands” or “lesser of two evils” analysi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Machiavelli a teacher of evil?</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advice is given impartially to all pri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the actions he recommends are, by his own admission, bad for others</a:t>
            </a:r>
            <a:endParaRPr b="0" lang="en-US" sz="2800" spc="-1" strike="noStrike">
              <a:solidFill>
                <a:srgbClr val="000000"/>
              </a:solidFill>
              <a:latin typeface="Arial"/>
            </a:endParaRPr>
          </a:p>
        </p:txBody>
      </p:sp>
      <p:pic>
        <p:nvPicPr>
          <p:cNvPr id="63" name="" descr=""/>
          <p:cNvPicPr/>
          <p:nvPr/>
        </p:nvPicPr>
        <p:blipFill>
          <a:blip r:embed="rId1"/>
          <a:stretch/>
        </p:blipFill>
        <p:spPr>
          <a:xfrm>
            <a:off x="4753080" y="1600200"/>
            <a:ext cx="3827520" cy="4525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other han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ppeals to the prince to liberate Italy in the last chapter of </a:t>
            </a:r>
            <a:r>
              <a:rPr b="0" i="1" lang="en-US" sz="2800" spc="-1" strike="noStrike">
                <a:solidFill>
                  <a:srgbClr val="000000"/>
                </a:solidFill>
                <a:latin typeface="Arial"/>
              </a:rPr>
              <a:t>The Prince</a:t>
            </a:r>
            <a:endParaRPr b="0" lang="en-US" sz="2800" spc="-1" strike="noStrike">
              <a:solidFill>
                <a:srgbClr val="000000"/>
              </a:solidFill>
              <a:latin typeface="Arial"/>
            </a:endParaRPr>
          </a:p>
        </p:txBody>
      </p:sp>
      <p:pic>
        <p:nvPicPr>
          <p:cNvPr id="66" name="" descr=""/>
          <p:cNvPicPr/>
          <p:nvPr/>
        </p:nvPicPr>
        <p:blipFill>
          <a:blip r:embed="rId1"/>
          <a:srcRect l="2138" t="2134" r="2138" b="2134"/>
          <a:stretch/>
        </p:blipFill>
        <p:spPr>
          <a:xfrm>
            <a:off x="4735440" y="1925640"/>
            <a:ext cx="3863880" cy="387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other han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ue models for imitation by the prince are </a:t>
            </a:r>
            <a:r>
              <a:rPr b="0" i="1" lang="en-US" sz="2800" spc="-1" strike="noStrike">
                <a:solidFill>
                  <a:srgbClr val="000000"/>
                </a:solidFill>
                <a:latin typeface="Arial"/>
              </a:rPr>
              <a:t>founders</a:t>
            </a:r>
            <a:r>
              <a:rPr b="0" lang="en-US" sz="2800" spc="-1" strike="noStrike">
                <a:solidFill>
                  <a:srgbClr val="000000"/>
                </a:solidFill>
                <a:latin typeface="Arial"/>
              </a:rPr>
              <a:t>: Moses, Cyrus, Theseus, Romul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2492280"/>
            <a:ext cx="4038480" cy="27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other han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avelli prefers republics to dictatorships in the </a:t>
            </a:r>
            <a:r>
              <a:rPr b="0" i="1" lang="en-US" sz="2800" spc="-1" strike="noStrike">
                <a:solidFill>
                  <a:srgbClr val="000000"/>
                </a:solidFill>
                <a:latin typeface="Arial"/>
              </a:rPr>
              <a:t>Discourses</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292480"/>
            <a:ext cx="4038480" cy="31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04:45:10Z</dcterms:created>
  <dc:creator>Full Name</dc:creator>
  <dc:description/>
  <dc:language>en-US</dc:language>
  <cp:lastModifiedBy>Full Name</cp:lastModifiedBy>
  <dcterms:modified xsi:type="dcterms:W3CDTF">2008-08-12T20:48:47Z</dcterms:modified>
  <cp:revision>5</cp:revision>
  <dc:subject/>
  <dc:title>Machiavelli</dc:title>
</cp:coreProperties>
</file>